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2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36720" y="4421160"/>
            <a:ext cx="514656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3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4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64FC3F-4057-4840-847A-77EAD91C9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21160"/>
            <a:ext cx="514656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571F3C-E81D-41B9-97AA-0982BDEBEA7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E1F9-8A03-42E9-8008-ACD2AB3D3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5DEE-7BD4-47CB-B2DA-8862AB12B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08B4-B9AA-4982-8181-C053973AA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A019-EABD-4F12-96AF-CD34E9F79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A1C6-1A06-44DD-98D9-D7F74A00F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A5CE-3AF0-4952-87A0-22D2B416BE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F928-322B-4C1A-BD70-49E03D486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33EA-F182-423E-BFD4-70C85AB98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1D8C-0647-4282-AA0C-8886FAC6A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A064-6E3F-477E-A9FF-61811B4C7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2FC9-1325-4DD8-B14D-39E00EB30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100A-1EB7-45D7-BDD3-18AC50BAC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9958-A481-4A0A-AADC-61754BF324F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Final-template-29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ISR-Cover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590560"/>
            <a:ext cx="5905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lanation of Value Stream Map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6 May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9677-6164-47EF-9A7E-546A6D370F61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uper Pizz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Your observation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p 1 – Reception takes 3 minutes to receive an order, but waits for 5 orders to build before giving to the next step (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p 2 – Pizzas are built to order, taking 5 minutes to build each pizza. (2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p 3 - The oven can cook 3 pizzas at a time. The cook relies on memory on which pizza corresponds with which order. Cooking time is 5 minutes per batch (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p 4 – The driver waits for 8 pizzas to be ready before delivering a batch. The company implemented this policy to save on gas. Each trip take 10 minutes. (2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6516720" y="1125360"/>
            <a:ext cx="24224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0EC0-B0DC-440B-8D73-B68D6A8FC402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alue Stream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Other Symb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ilding th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per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65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2E78-9F3A-4A96-8EF4-B5584D0AA5C6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Value Stream Map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 diagram that allows us to see the process at a high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hows the flow of materials and information needed to deliver a product or service to the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diagrams represent the current state and future state to enable us to understand what improvements to the process are need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5F3-638F-4B7D-A57E-09ADA497906B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391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Process Time (PT)</a:t>
            </a: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 – The amount of time of actual work performed on the case file (A.K.A “Touch Time”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Cycle Time (CT)</a:t>
            </a: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 – The amount of time needed for a case file to travel the process from start to finish, assuming no inventor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Process Lead Time (PLT)</a:t>
            </a: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 – The total amount of time needed to process a case file with delays due to invent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Complete and Accurate % (C/A)</a:t>
            </a: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 – The percentage of the cases that can be processed without any disturbance to flow (e.g. missing info, errors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Batch </a:t>
            </a: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– The amount of items that can be done at the same time i.e. baking 6 muffins at a time in the ov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Owner\Documents\Lean Agility Inc\Clients\Privy Council Office\ECS\pics\5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rrection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all spend time and effort correcting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asks 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not don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first time (e.g. missing  step,  issue not identified, missing 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asks 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done incorrectl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first time (e.g. checklist not done properly, wrong issue identified, out of date info on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Unclear Informa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e.g. claim type not clear, prep instructions not clear, steps not clear to claim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Work that takes too long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e.g. filest that take too long encounter changes – that take even more time; delays create follow up calls/questions that take more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ill track these occurrences in the mapping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705720" y="5867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318F-A5BD-4263-8A3E-A628CEDBC0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2CFD-6738-4056-8153-DEA7F49B30A2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393920" y="2276640"/>
            <a:ext cx="65628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281-550C-458C-8E63-DDD738CB986D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ther Symb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9"/>
          <p:cNvGraphicFramePr/>
          <p:nvPr/>
        </p:nvGraphicFramePr>
        <p:xfrm>
          <a:off x="2987640" y="2060640"/>
          <a:ext cx="37418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060640"/>
                    <a:ext cx="37418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AA5B-861F-426C-B556-4D9BE8D63BBC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Building the Ma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848196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B489-F147-40CA-8551-E9AAB9857C6D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uper Pizz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uper Pizza needs some mapping hel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They have implemented a “30 minutes or it is free” policy. A lot of pizzas are arriving l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A bunch of orders are incorr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izzas are arriving col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6516720" y="1125360"/>
            <a:ext cx="24224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2:15:45Z</dcterms:created>
  <dc:creator>Andrew Milne</dc:creator>
  <dc:description/>
  <dc:language>en-US</dc:language>
  <cp:lastModifiedBy>Owner</cp:lastModifiedBy>
  <cp:lastPrinted>2006-06-15T21:11:50Z</cp:lastPrinted>
  <dcterms:modified xsi:type="dcterms:W3CDTF">2013-05-06T00:18:45Z</dcterms:modified>
  <cp:revision>712</cp:revision>
  <dc:subject/>
  <dc:title>PowerPoint Presentation</dc:title>
</cp:coreProperties>
</file>